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5E8D-B854-4B4C-B281-822E907FFFF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F09E-D306-479C-82E9-23C2A91523C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F540-E20C-4DB1-B8E2-506682DB06A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522D-C35F-413A-AC65-2C737D9BDA7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3A93-73F9-4B37-A408-746F0526F0D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6B68-C4E3-486E-B2C3-EEA46EEB59F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2940-A916-4EDF-A266-B1FB465A271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2D07-7F82-4D52-9F4F-0E17026AB3B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A30E-E9A2-4737-984B-F6655F29168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66EC-F7DB-4088-AF23-19887A1A05F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00E8-DDF6-4DBC-9BC1-E9EB1AC9A66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03F5-A0E0-46C7-A4B7-086AA505EEE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B4B6-08DB-4BFD-9670-B8CDC9C0A83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0934-C9D7-4765-A5F5-5BDED57F3A2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5EC7-188C-4227-929A-44691A54CAB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DCDC-3DBE-4B8B-883D-5DE81E86976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A0B2-9BA8-40F8-904D-3A6BE0C4E3E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5409-F21B-47E5-96B3-BF66904C6D8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D0D0-808E-4D88-878C-18E95F279EE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92BB-03D1-48E2-83C2-097FF31C06C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75FC-7B65-431B-9B25-D927FA917BB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FC4C-F4D5-461B-BAE4-283DD8C8D22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CB73-8C57-4B7C-BEB3-7CBF47CBFE6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B94C-569E-4896-946E-3AFB9B77063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CC7C-F1B1-43BA-A5E1-A43CB11AA23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A591-F425-401A-B330-182DDAEB499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38ED-F867-4497-A5E8-F12A24ACC55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0AAC-D3D6-4F7F-992A-E9263D38141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70E9-6792-48F3-B4BB-093DFAFCF88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A3A0-B3C5-40B8-8FBA-511CF584CD6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6C52-DC86-4703-A3BE-2CACE282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95C-5AD0-4C35-8290-1230DC14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3D5C-3E5A-4295-A28A-BA385098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D4C1-EAEE-4E74-AB11-4514D85E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78D8-C75B-4600-8496-B962C630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FE7-7633-4D9E-B925-8D9C2FDD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1C80-D0D7-49A3-A84A-36509926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61A4-5ACF-4383-A0DC-1EEC4FDF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5B5C-B83C-4B48-9DA5-BD7BD9D6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08B-4B67-4858-9634-00590D17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7DA2-290C-4680-9B90-F97C1F87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AF0-B7CA-48EC-9AA4-C54C39CE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CCDD-5B40-4A6A-BEFB-7ADBEA0A8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ject 5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4829040" cy="3444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3060000" y="24620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° = -RT l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5172120" y="3154320"/>
            <a:ext cx="1357200" cy="887400"/>
          </a:xfrm>
          <a:prstGeom prst="cloudCallout">
            <a:avLst>
              <a:gd name="adj1" fmla="val -44384"/>
              <a:gd name="adj2" fmla="val 62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zzzz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6029280" y="3554280"/>
            <a:ext cx="1357200" cy="887400"/>
          </a:xfrm>
          <a:prstGeom prst="cloudCallout">
            <a:avLst>
              <a:gd name="adj1" fmla="val -44384"/>
              <a:gd name="adj2" fmla="val 62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zzzzzz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1592280" y="3254400"/>
            <a:ext cx="1461960" cy="965160"/>
          </a:xfrm>
          <a:prstGeom prst="cloudCallout">
            <a:avLst>
              <a:gd name="adj1" fmla="val -33171"/>
              <a:gd name="adj2" fmla="val 725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zzzz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4692600" y="2239920"/>
            <a:ext cx="1293840" cy="770040"/>
          </a:xfrm>
          <a:prstGeom prst="wedgeEllipseCallout">
            <a:avLst>
              <a:gd name="adj1" fmla="val -62884"/>
              <a:gd name="adj2" fmla="val 60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1098720" y="1066680"/>
            <a:ext cx="610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ЕЛЕКТРОХЕМИЈСКЕ ЋЕ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ХЕМИЈСКИ ИЗВОРИ СТРУЈ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ubtitle 2"/>
          <p:cNvSpPr/>
          <p:nvPr/>
        </p:nvSpPr>
        <p:spPr>
          <a:xfrm>
            <a:off x="1522440" y="5934240"/>
            <a:ext cx="64008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7603560" y="652788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дељ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254680" y="380880"/>
            <a:ext cx="37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ЛЕКТРОХ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ubtitle 2"/>
          <p:cNvSpPr/>
          <p:nvPr/>
        </p:nvSpPr>
        <p:spPr>
          <a:xfrm>
            <a:off x="1528920" y="5883120"/>
            <a:ext cx="64008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Снежана Јовановић Ст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20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7"/>
          <p:cNvSpPr/>
          <p:nvPr/>
        </p:nvSpPr>
        <p:spPr>
          <a:xfrm>
            <a:off x="457200" y="1523880"/>
            <a:ext cx="822960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Стандардни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електродни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потенцијал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ћелије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веза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вак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уреакц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дређу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моторн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л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стема, или потенцијал ћелије Е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с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ћел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убит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нод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ОКСИДАЦИОНИ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ПОТЕНЦИЈАЛ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lang="sr-CS" sz="2400" spc="-1" strike="noStrike" baseline="-25000">
                <a:solidFill>
                  <a:srgbClr val="ff3300"/>
                </a:solidFill>
                <a:latin typeface="Arial"/>
              </a:rPr>
              <a:t>о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ућел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об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атод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РЕДУКЦИОНИ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ПОТЕНЦИЈАЛ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lang="sr-CS" sz="2400" spc="-1" strike="noStrike" baseline="-25000">
                <a:solidFill>
                  <a:srgbClr val="333399"/>
                </a:solidFill>
                <a:latin typeface="Arial"/>
              </a:rPr>
              <a:t>ред</a:t>
            </a:r>
            <a:r>
              <a:rPr b="1" lang="sr-Latn-CS" sz="24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Straight Arrow Connector 19"/>
          <p:cNvCxnSpPr/>
          <p:nvPr/>
        </p:nvCxnSpPr>
        <p:spPr>
          <a:xfrm flipV="1">
            <a:off x="3198960" y="1447560"/>
            <a:ext cx="2160" cy="36597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2" name="TextBox 20"/>
          <p:cNvSpPr/>
          <p:nvPr/>
        </p:nvSpPr>
        <p:spPr>
          <a:xfrm rot="16200000">
            <a:off x="2251440" y="3057480"/>
            <a:ext cx="140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CS" sz="2400" spc="-1" strike="noStrike" baseline="30000">
                <a:solidFill>
                  <a:srgbClr val="000000"/>
                </a:solidFill>
                <a:latin typeface="Arial"/>
              </a:rPr>
              <a:t>о 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 ред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1"/>
          <p:cNvSpPr/>
          <p:nvPr/>
        </p:nvSpPr>
        <p:spPr>
          <a:xfrm>
            <a:off x="2895480" y="7621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Више позитив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2"/>
          <p:cNvSpPr/>
          <p:nvPr/>
        </p:nvSpPr>
        <p:spPr>
          <a:xfrm>
            <a:off x="2743200" y="5181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Више негати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24"/>
          <p:cNvSpPr/>
          <p:nvPr/>
        </p:nvSpPr>
        <p:spPr>
          <a:xfrm>
            <a:off x="3200400" y="2057400"/>
            <a:ext cx="15238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25"/>
          <p:cNvSpPr/>
          <p:nvPr/>
        </p:nvSpPr>
        <p:spPr>
          <a:xfrm>
            <a:off x="3200400" y="4419720"/>
            <a:ext cx="15238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6"/>
          <p:cNvSpPr/>
          <p:nvPr/>
        </p:nvSpPr>
        <p:spPr>
          <a:xfrm>
            <a:off x="3276720" y="13716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тода редук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7"/>
          <p:cNvSpPr/>
          <p:nvPr/>
        </p:nvSpPr>
        <p:spPr>
          <a:xfrm>
            <a:off x="3276720" y="4419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нода  оксид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30"/>
          <p:cNvCxnSpPr/>
          <p:nvPr/>
        </p:nvCxnSpPr>
        <p:spPr>
          <a:xfrm flipH="1">
            <a:off x="3962160" y="2057400"/>
            <a:ext cx="2160" cy="2363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0" name="TextBox 31"/>
          <p:cNvSpPr/>
          <p:nvPr/>
        </p:nvSpPr>
        <p:spPr>
          <a:xfrm>
            <a:off x="4772520" y="1905120"/>
            <a:ext cx="97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CS" sz="2800" spc="-1" strike="noStrike" baseline="30000">
                <a:solidFill>
                  <a:srgbClr val="000000"/>
                </a:solidFill>
                <a:latin typeface="Arial"/>
              </a:rPr>
              <a:t>о </a:t>
            </a:r>
            <a:r>
              <a:rPr b="1" lang="sr-CS" sz="2800" spc="-1" strike="noStrike" baseline="-25000">
                <a:solidFill>
                  <a:srgbClr val="000000"/>
                </a:solidFill>
                <a:latin typeface="Arial"/>
              </a:rPr>
              <a:t>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2"/>
          <p:cNvSpPr/>
          <p:nvPr/>
        </p:nvSpPr>
        <p:spPr>
          <a:xfrm>
            <a:off x="4764600" y="4191120"/>
            <a:ext cx="84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CS" sz="2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ок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3"/>
          <p:cNvSpPr/>
          <p:nvPr/>
        </p:nvSpPr>
        <p:spPr>
          <a:xfrm>
            <a:off x="3608280" y="2895480"/>
            <a:ext cx="71424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CS" sz="2800" spc="-1" strike="noStrike" baseline="30000">
                <a:solidFill>
                  <a:srgbClr val="000000"/>
                </a:solidFill>
                <a:latin typeface="Arial"/>
              </a:rPr>
              <a:t>о </a:t>
            </a:r>
            <a:r>
              <a:rPr b="1" lang="sr-CS" sz="2800" spc="-1" strike="noStrike" baseline="-25000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5943600" y="3809880"/>
            <a:ext cx="2971800" cy="1981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н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егативн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лектрод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ксидациј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тпушт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оизвод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лектр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нјо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грирају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њој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5867280" y="380880"/>
            <a:ext cx="3048120" cy="22100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тод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зитивн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лектрод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едукциј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лектрон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рош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ј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лектр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тјон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грирају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њој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419720" y="2971800"/>
            <a:ext cx="41907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тандардн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тенциал  ћел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1828800"/>
            <a:ext cx="26668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4419720"/>
            <a:ext cx="281952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an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0" y="2819520"/>
            <a:ext cx="2133720" cy="105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тандардн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тенциал  ћелије 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Up Arrow 40"/>
          <p:cNvSpPr/>
          <p:nvPr/>
        </p:nvSpPr>
        <p:spPr>
          <a:xfrm>
            <a:off x="228600" y="23623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wn Arrow 41"/>
          <p:cNvSpPr/>
          <p:nvPr/>
        </p:nvSpPr>
        <p:spPr>
          <a:xfrm>
            <a:off x="228600" y="3809880"/>
            <a:ext cx="228600" cy="60984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7" descr="fig17_06"/>
          <p:cNvPicPr/>
          <p:nvPr/>
        </p:nvPicPr>
        <p:blipFill>
          <a:blip r:embed="rId1"/>
          <a:srcRect l="15835" t="-3032" r="0" b="0"/>
          <a:stretch/>
        </p:blipFill>
        <p:spPr>
          <a:xfrm>
            <a:off x="1295280" y="1289160"/>
            <a:ext cx="6249960" cy="55688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2286360" y="2133720"/>
            <a:ext cx="730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ан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432240" y="2133720"/>
            <a:ext cx="447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109120" y="2133720"/>
            <a:ext cx="471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228600" y="2590920"/>
            <a:ext cx="266688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(s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2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76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0.76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6096600" y="2133720"/>
            <a:ext cx="98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+ кат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6248520" y="2514600"/>
            <a:ext cx="2666880" cy="1260720"/>
          </a:xfrm>
          <a:prstGeom prst="rect">
            <a:avLst/>
          </a:prstGeom>
          <a:solidFill>
            <a:srgbClr val="9ed3d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0.34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.34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12"/>
          <p:cNvCxnSpPr/>
          <p:nvPr/>
        </p:nvCxnSpPr>
        <p:spPr>
          <a:xfrm>
            <a:off x="4419720" y="2743200"/>
            <a:ext cx="381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9" name="Straight Arrow Connector 14"/>
          <p:cNvCxnSpPr/>
          <p:nvPr/>
        </p:nvCxnSpPr>
        <p:spPr>
          <a:xfrm flipH="1" flipV="1">
            <a:off x="4419360" y="2971440"/>
            <a:ext cx="3052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0" name="Rectangle 6"/>
          <p:cNvSpPr/>
          <p:nvPr/>
        </p:nvSpPr>
        <p:spPr>
          <a:xfrm>
            <a:off x="-76320" y="0"/>
            <a:ext cx="9220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455760" indent="-455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тенцијал  напонске ћелије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Cu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0880" y="609480"/>
            <a:ext cx="281952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=0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76 + 0.3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=1.1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5867280" y="609480"/>
            <a:ext cx="304812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k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an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=0.34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(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0.76) =1.1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3608640" y="762120"/>
            <a:ext cx="187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=1.10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ight Arrow 19"/>
          <p:cNvSpPr/>
          <p:nvPr/>
        </p:nvSpPr>
        <p:spPr>
          <a:xfrm>
            <a:off x="3200400" y="1143000"/>
            <a:ext cx="304920" cy="2286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eft Arrow 20"/>
          <p:cNvSpPr/>
          <p:nvPr/>
        </p:nvSpPr>
        <p:spPr>
          <a:xfrm>
            <a:off x="5562720" y="1219320"/>
            <a:ext cx="304560" cy="228600"/>
          </a:xfrm>
          <a:prstGeom prst="leftArrow">
            <a:avLst>
              <a:gd name="adj1" fmla="val 50000"/>
              <a:gd name="adj2" fmla="val 4996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3"/>
          <p:cNvSpPr/>
          <p:nvPr/>
        </p:nvSpPr>
        <p:spPr>
          <a:xfrm>
            <a:off x="3203280" y="137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4"/>
          <p:cNvSpPr/>
          <p:nvPr/>
        </p:nvSpPr>
        <p:spPr>
          <a:xfrm>
            <a:off x="5565240" y="137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4724280" y="0"/>
          <a:ext cx="4419720" cy="6867360"/>
        </p:xfrm>
        <a:graphic>
          <a:graphicData uri="http://schemas.openxmlformats.org/drawingml/2006/table">
            <a:tbl>
              <a:tblPr/>
              <a:tblGrid>
                <a:gridCol w="2438640"/>
                <a:gridCol w="1981080"/>
              </a:tblGrid>
              <a:tr h="65772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kciona polureakcija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 redukcioni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jal </a:t>
                      </a:r>
                      <a:br>
                        <a:rPr sz="1400"/>
                      </a:b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i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Li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K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a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Na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Mg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Al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Z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r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Fe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d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Ni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S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Pb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Fe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72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H</a:t>
                      </a:r>
                      <a:r>
                        <a:rPr b="0" lang="sr-C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H</a:t>
                      </a:r>
                      <a:r>
                        <a:rPr b="0" lang="sr-C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Sn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u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Cl(s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Ag(s) + Cl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u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u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F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2Hg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Ag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Hg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Hg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Hg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o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2F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69" name="Straight Arrow Connector 6"/>
          <p:cNvCxnSpPr/>
          <p:nvPr/>
        </p:nvCxnSpPr>
        <p:spPr>
          <a:xfrm>
            <a:off x="3580920" y="2133720"/>
            <a:ext cx="1143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0" name="Straight Arrow Connector 14"/>
          <p:cNvCxnSpPr/>
          <p:nvPr/>
        </p:nvCxnSpPr>
        <p:spPr>
          <a:xfrm>
            <a:off x="3886200" y="4648320"/>
            <a:ext cx="9151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1" name="Straight Arrow Connector 23"/>
          <p:cNvCxnSpPr/>
          <p:nvPr/>
        </p:nvCxnSpPr>
        <p:spPr>
          <a:xfrm>
            <a:off x="4343400" y="3123720"/>
            <a:ext cx="3816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2" name="Straight Arrow Connector 26"/>
          <p:cNvCxnSpPr/>
          <p:nvPr/>
        </p:nvCxnSpPr>
        <p:spPr>
          <a:xfrm flipH="1">
            <a:off x="4417200" y="2135160"/>
            <a:ext cx="3960" cy="991440"/>
          </a:xfrm>
          <a:prstGeom prst="straightConnector1">
            <a:avLst/>
          </a:prstGeom>
          <a:ln w="9360">
            <a:solidFill>
              <a:srgbClr val="66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3" name="Straight Arrow Connector 30"/>
          <p:cNvCxnSpPr/>
          <p:nvPr/>
        </p:nvCxnSpPr>
        <p:spPr>
          <a:xfrm flipH="1">
            <a:off x="3962160" y="2133360"/>
            <a:ext cx="2160" cy="2515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4" name="Straight Arrow Connector 32"/>
          <p:cNvCxnSpPr/>
          <p:nvPr/>
        </p:nvCxnSpPr>
        <p:spPr>
          <a:xfrm flipH="1">
            <a:off x="4570200" y="2134800"/>
            <a:ext cx="3600" cy="686520"/>
          </a:xfrm>
          <a:prstGeom prst="straightConnector1">
            <a:avLst/>
          </a:prstGeom>
          <a:ln w="9360">
            <a:solidFill>
              <a:srgbClr val="ff66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5" name="Straight Arrow Connector 33"/>
          <p:cNvCxnSpPr/>
          <p:nvPr/>
        </p:nvCxnSpPr>
        <p:spPr>
          <a:xfrm>
            <a:off x="4571640" y="2819520"/>
            <a:ext cx="1530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6" name="Straight Arrow Connector 36"/>
          <p:cNvCxnSpPr/>
          <p:nvPr/>
        </p:nvCxnSpPr>
        <p:spPr>
          <a:xfrm>
            <a:off x="3429000" y="4876920"/>
            <a:ext cx="12960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7" name="Straight Arrow Connector 39"/>
          <p:cNvCxnSpPr/>
          <p:nvPr/>
        </p:nvCxnSpPr>
        <p:spPr>
          <a:xfrm flipH="1">
            <a:off x="3733560" y="2133720"/>
            <a:ext cx="2160" cy="274392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8" name="Rectangle 8"/>
          <p:cNvSpPr/>
          <p:nvPr/>
        </p:nvSpPr>
        <p:spPr>
          <a:xfrm>
            <a:off x="685800" y="1371600"/>
            <a:ext cx="26668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09480" y="4952880"/>
            <a:ext cx="2819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an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0" y="2362320"/>
            <a:ext cx="3276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C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Cu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104760" y="5867280"/>
            <a:ext cx="432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2Н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2(гас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Arrow Connector 16"/>
          <p:cNvCxnSpPr/>
          <p:nvPr/>
        </p:nvCxnSpPr>
        <p:spPr>
          <a:xfrm>
            <a:off x="4114440" y="396252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Straight Arrow Connector 18"/>
          <p:cNvCxnSpPr/>
          <p:nvPr/>
        </p:nvCxnSpPr>
        <p:spPr>
          <a:xfrm flipV="1">
            <a:off x="4191120" y="2133360"/>
            <a:ext cx="2160" cy="18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304920" y="380880"/>
            <a:ext cx="8458200" cy="61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олу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ћелијск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иректно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ер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едукциј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рист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еферентн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зим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1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2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25 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з тих разлога се сваки редукциони потенцијал мери у односу на стандардну водоничну електроду, која је увек једна полућелија у односу на коју се мери потенциј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етаљи о водоничној електроди су приказани у предавању 1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3" descr="fig17_05"/>
          <p:cNvPicPr/>
          <p:nvPr/>
        </p:nvPicPr>
        <p:blipFill>
          <a:blip r:embed="rId1"/>
          <a:srcRect l="0" t="0" r="0" b="7541"/>
          <a:stretch/>
        </p:blipFill>
        <p:spPr>
          <a:xfrm>
            <a:off x="0" y="2921040"/>
            <a:ext cx="7696080" cy="3936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9"/>
          <p:cNvSpPr/>
          <p:nvPr/>
        </p:nvSpPr>
        <p:spPr>
          <a:xfrm>
            <a:off x="1147320" y="4724280"/>
            <a:ext cx="990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- АН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0"/>
          <p:cNvSpPr/>
          <p:nvPr/>
        </p:nvSpPr>
        <p:spPr>
          <a:xfrm>
            <a:off x="2817000" y="4648320"/>
            <a:ext cx="1122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+ КАТ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апонска ћелија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–стандардни редукциони потенцијал у односу на редукцију водоник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79920" y="1066680"/>
            <a:ext cx="500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(s) + 2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41920" y="1371600"/>
            <a:ext cx="44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+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+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4059720" y="2036880"/>
            <a:ext cx="500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(s) + 2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>
            <a:off x="4259160" y="2597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4259160" y="2819520"/>
            <a:ext cx="2425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6"/>
          <p:cNvSpPr/>
          <p:nvPr/>
        </p:nvSpPr>
        <p:spPr>
          <a:xfrm>
            <a:off x="6670800" y="2593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4888080" y="240048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50021"/>
                </a:solidFill>
                <a:latin typeface="Arial"/>
              </a:rPr>
              <a:t>губи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2</a:t>
            </a:r>
            <a:r>
              <a:rPr b="1" lang="sr-CS" sz="2400" spc="-1" strike="noStrike">
                <a:solidFill>
                  <a:srgbClr val="a50021"/>
                </a:solidFill>
                <a:latin typeface="Arial"/>
              </a:rPr>
              <a:t>е</a:t>
            </a:r>
            <a:r>
              <a:rPr b="1" lang="en-US" sz="2400" spc="-1" strike="noStrike" baseline="30000">
                <a:solidFill>
                  <a:srgbClr val="a50021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8"/>
          <p:cNvSpPr/>
          <p:nvPr/>
        </p:nvSpPr>
        <p:spPr>
          <a:xfrm>
            <a:off x="5245200" y="195408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9"/>
          <p:cNvSpPr/>
          <p:nvPr/>
        </p:nvSpPr>
        <p:spPr>
          <a:xfrm>
            <a:off x="5232240" y="1954080"/>
            <a:ext cx="272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942320" y="196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5878080" y="152388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добиј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2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е</a:t>
            </a:r>
            <a:r>
              <a:rPr b="1" lang="en-US" sz="2400" spc="-1" strike="noStrike" baseline="30000">
                <a:solidFill>
                  <a:srgbClr val="000099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304920" y="2514600"/>
            <a:ext cx="26668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.76 + 0.0= 0.76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3429000" y="2895480"/>
            <a:ext cx="31240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an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.0- ( -0.76) = 0.76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609480" y="6629400"/>
            <a:ext cx="396252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6906240" y="3657600"/>
            <a:ext cx="2233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Водонична електрод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Straight Arrow Connector 21"/>
          <p:cNvCxnSpPr>
            <a:stCxn id="203" idx="2"/>
          </p:cNvCxnSpPr>
          <p:nvPr/>
        </p:nvCxnSpPr>
        <p:spPr>
          <a:xfrm flipH="1">
            <a:off x="7619760" y="3965400"/>
            <a:ext cx="403920" cy="302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5438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Означавање ћелиј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115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(s) +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+ Cu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лектролитички м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(s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u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д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½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л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д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л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ни теку</a:t>
            </a:r>
            <a:r>
              <a:rPr b="1" lang="sr-C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 овом правцу од аноде ка катод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031000" y="21337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аница ф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114300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3"/>
          <p:cNvCxnSpPr/>
          <p:nvPr/>
        </p:nvCxnSpPr>
        <p:spPr>
          <a:xfrm flipH="1">
            <a:off x="3199680" y="2133360"/>
            <a:ext cx="153000" cy="53388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10" name="Left Brace 4"/>
          <p:cNvSpPr/>
          <p:nvPr/>
        </p:nvSpPr>
        <p:spPr>
          <a:xfrm rot="16200000">
            <a:off x="4038480" y="2361960"/>
            <a:ext cx="914400" cy="2133720"/>
          </a:xfrm>
          <a:custGeom>
            <a:avLst/>
            <a:gdLst>
              <a:gd name="textAreaLeft" fmla="*/ 584280 w 914400"/>
              <a:gd name="textAreaRight" fmla="*/ 914760 w 914400"/>
              <a:gd name="textAreaTop" fmla="*/ 23760 h 2133720"/>
              <a:gd name="textAreaBottom" fmla="*/ 210996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5400" y="10800"/>
                  <a:pt x="0" y="10800"/>
                </a:cubicBezTo>
                <a:cubicBezTo>
                  <a:pt x="54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eft Brace 20"/>
          <p:cNvSpPr/>
          <p:nvPr/>
        </p:nvSpPr>
        <p:spPr>
          <a:xfrm rot="16200000">
            <a:off x="1371600" y="2381400"/>
            <a:ext cx="914400" cy="2133360"/>
          </a:xfrm>
          <a:custGeom>
            <a:avLst/>
            <a:gdLst>
              <a:gd name="textAreaLeft" fmla="*/ 584280 w 914400"/>
              <a:gd name="textAreaRight" fmla="*/ 914760 w 914400"/>
              <a:gd name="textAreaTop" fmla="*/ 23760 h 2133360"/>
              <a:gd name="textAreaBottom" fmla="*/ 210960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5400" y="10800"/>
                  <a:pt x="0" y="10800"/>
                </a:cubicBezTo>
                <a:cubicBezTo>
                  <a:pt x="54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03480" y="194796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аница ф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6"/>
          <p:cNvCxnSpPr/>
          <p:nvPr/>
        </p:nvCxnSpPr>
        <p:spPr>
          <a:xfrm>
            <a:off x="1447560" y="2133360"/>
            <a:ext cx="153000" cy="53388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14" name="Straight Arrow Connector 9"/>
          <p:cNvCxnSpPr>
            <a:stCxn id="207" idx="1"/>
          </p:cNvCxnSpPr>
          <p:nvPr/>
        </p:nvCxnSpPr>
        <p:spPr>
          <a:xfrm flipH="1">
            <a:off x="4876200" y="2319120"/>
            <a:ext cx="153000" cy="34776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апонске ћелије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 + 2A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уреак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600" spc="-1" strike="noStrike" baseline="30000">
                <a:solidFill>
                  <a:srgbClr val="000000"/>
                </a:solidFill>
                <a:latin typeface="Arial"/>
              </a:rPr>
              <a:t>оксид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A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у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4"/>
          <p:cNvGrpSpPr/>
          <p:nvPr/>
        </p:nvGrpSpPr>
        <p:grpSpPr>
          <a:xfrm>
            <a:off x="2971800" y="2819520"/>
            <a:ext cx="520560" cy="303840"/>
            <a:chOff x="2971800" y="2819520"/>
            <a:chExt cx="520560" cy="303840"/>
          </a:xfrm>
        </p:grpSpPr>
        <p:sp>
          <p:nvSpPr>
            <p:cNvPr id="218" name="Freeform 5"/>
            <p:cNvSpPr/>
            <p:nvPr/>
          </p:nvSpPr>
          <p:spPr>
            <a:xfrm>
              <a:off x="2971800" y="2819520"/>
              <a:ext cx="520560" cy="10152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"/>
            <p:cNvSpPr/>
            <p:nvPr/>
          </p:nvSpPr>
          <p:spPr>
            <a:xfrm flipH="1" flipV="1">
              <a:off x="2971800" y="3021840"/>
              <a:ext cx="520560" cy="10116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-360 h 101160"/>
                <a:gd name="textAreaBottom" fmla="*/ 101160 h 10116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7"/>
          <p:cNvGrpSpPr/>
          <p:nvPr/>
        </p:nvGrpSpPr>
        <p:grpSpPr>
          <a:xfrm>
            <a:off x="3200400" y="3352680"/>
            <a:ext cx="520560" cy="304920"/>
            <a:chOff x="3200400" y="3352680"/>
            <a:chExt cx="520560" cy="304920"/>
          </a:xfrm>
        </p:grpSpPr>
        <p:sp>
          <p:nvSpPr>
            <p:cNvPr id="221" name="Freeform 8"/>
            <p:cNvSpPr/>
            <p:nvPr/>
          </p:nvSpPr>
          <p:spPr>
            <a:xfrm>
              <a:off x="3200400" y="3352680"/>
              <a:ext cx="520560" cy="10188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9"/>
            <p:cNvSpPr/>
            <p:nvPr/>
          </p:nvSpPr>
          <p:spPr>
            <a:xfrm flipH="1" flipV="1">
              <a:off x="3200400" y="3556080"/>
              <a:ext cx="520560" cy="10152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360 h 101520"/>
                <a:gd name="textAreaBottom" fmla="*/ 102240 h 10152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0"/>
          <p:cNvGrpSpPr/>
          <p:nvPr/>
        </p:nvGrpSpPr>
        <p:grpSpPr>
          <a:xfrm>
            <a:off x="3276720" y="1752480"/>
            <a:ext cx="520560" cy="304920"/>
            <a:chOff x="3276720" y="1752480"/>
            <a:chExt cx="520560" cy="304920"/>
          </a:xfrm>
        </p:grpSpPr>
        <p:sp>
          <p:nvSpPr>
            <p:cNvPr id="224" name="Freeform 11"/>
            <p:cNvSpPr/>
            <p:nvPr/>
          </p:nvSpPr>
          <p:spPr>
            <a:xfrm>
              <a:off x="3276720" y="1752480"/>
              <a:ext cx="520560" cy="10188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"/>
            <p:cNvSpPr/>
            <p:nvPr/>
          </p:nvSpPr>
          <p:spPr>
            <a:xfrm flipH="1" flipV="1">
              <a:off x="3276720" y="1955880"/>
              <a:ext cx="520560" cy="10152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360 h 101520"/>
                <a:gd name="textAreaBottom" fmla="*/ 102240 h 10152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13"/>
          <p:cNvSpPr/>
          <p:nvPr/>
        </p:nvSpPr>
        <p:spPr>
          <a:xfrm>
            <a:off x="1295280" y="411480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e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an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1143000" y="5029200"/>
            <a:ext cx="403848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303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106280" y="392400"/>
            <a:ext cx="672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d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a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 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g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1133280" y="137160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        C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9"/>
          <p:cNvGrpSpPr/>
          <p:nvPr/>
        </p:nvGrpSpPr>
        <p:grpSpPr>
          <a:xfrm>
            <a:off x="1784520" y="1477800"/>
            <a:ext cx="520560" cy="304920"/>
            <a:chOff x="1784520" y="1477800"/>
            <a:chExt cx="520560" cy="304920"/>
          </a:xfrm>
        </p:grpSpPr>
        <p:sp>
          <p:nvSpPr>
            <p:cNvPr id="232" name="Freeform 10"/>
            <p:cNvSpPr/>
            <p:nvPr/>
          </p:nvSpPr>
          <p:spPr>
            <a:xfrm>
              <a:off x="1784520" y="1477800"/>
              <a:ext cx="520560" cy="10188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1"/>
            <p:cNvSpPr/>
            <p:nvPr/>
          </p:nvSpPr>
          <p:spPr>
            <a:xfrm flipH="1" flipV="1">
              <a:off x="1784520" y="1681200"/>
              <a:ext cx="520560" cy="10152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360 h 101520"/>
                <a:gd name="textAreaBottom" fmla="*/ 102240 h 10152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2"/>
          <p:cNvSpPr/>
          <p:nvPr/>
        </p:nvSpPr>
        <p:spPr>
          <a:xfrm>
            <a:off x="5278680" y="1371600"/>
            <a:ext cx="31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2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2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3"/>
          <p:cNvGrpSpPr/>
          <p:nvPr/>
        </p:nvGrpSpPr>
        <p:grpSpPr>
          <a:xfrm>
            <a:off x="7152840" y="1477800"/>
            <a:ext cx="521280" cy="304920"/>
            <a:chOff x="7152840" y="1477800"/>
            <a:chExt cx="521280" cy="304920"/>
          </a:xfrm>
        </p:grpSpPr>
        <p:sp>
          <p:nvSpPr>
            <p:cNvPr id="236" name="Freeform 14"/>
            <p:cNvSpPr/>
            <p:nvPr/>
          </p:nvSpPr>
          <p:spPr>
            <a:xfrm>
              <a:off x="7153200" y="1477800"/>
              <a:ext cx="520920" cy="10188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5"/>
            <p:cNvSpPr/>
            <p:nvPr/>
          </p:nvSpPr>
          <p:spPr>
            <a:xfrm flipH="1" flipV="1">
              <a:off x="7152480" y="1681200"/>
              <a:ext cx="520920" cy="101520"/>
            </a:xfrm>
            <a:custGeom>
              <a:avLst/>
              <a:gdLst>
                <a:gd name="textAreaLeft" fmla="*/ -360 w 520920"/>
                <a:gd name="textAreaRight" fmla="*/ 520920 w 520920"/>
                <a:gd name="textAreaTop" fmla="*/ 360 h 101520"/>
                <a:gd name="textAreaBottom" fmla="*/ 102240 h 10152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51"/>
          <p:cNvGrpSpPr/>
          <p:nvPr/>
        </p:nvGrpSpPr>
        <p:grpSpPr>
          <a:xfrm>
            <a:off x="4397400" y="3505320"/>
            <a:ext cx="4594320" cy="2579400"/>
            <a:chOff x="4397400" y="3505320"/>
            <a:chExt cx="4594320" cy="2579400"/>
          </a:xfrm>
        </p:grpSpPr>
        <p:sp>
          <p:nvSpPr>
            <p:cNvPr id="239" name="AutoShape 52"/>
            <p:cNvSpPr/>
            <p:nvPr/>
          </p:nvSpPr>
          <p:spPr>
            <a:xfrm>
              <a:off x="4397400" y="3505320"/>
              <a:ext cx="4594320" cy="25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53"/>
            <p:cNvSpPr/>
            <p:nvPr/>
          </p:nvSpPr>
          <p:spPr>
            <a:xfrm>
              <a:off x="6791040" y="4957560"/>
              <a:ext cx="1412640" cy="981000"/>
            </a:xfrm>
            <a:prstGeom prst="rect">
              <a:avLst/>
            </a:prstGeom>
            <a:solidFill>
              <a:srgbClr val="00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54"/>
            <p:cNvSpPr/>
            <p:nvPr/>
          </p:nvSpPr>
          <p:spPr>
            <a:xfrm>
              <a:off x="4986000" y="4957560"/>
              <a:ext cx="1412640" cy="981000"/>
            </a:xfrm>
            <a:prstGeom prst="rect">
              <a:avLst/>
            </a:prstGeom>
            <a:solidFill>
              <a:srgbClr val="00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5"/>
            <p:cNvSpPr/>
            <p:nvPr/>
          </p:nvSpPr>
          <p:spPr>
            <a:xfrm>
              <a:off x="5260680" y="4643280"/>
              <a:ext cx="313920" cy="1020240"/>
            </a:xfrm>
            <a:prstGeom prst="rect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56"/>
            <p:cNvSpPr/>
            <p:nvPr/>
          </p:nvSpPr>
          <p:spPr>
            <a:xfrm flipV="1">
              <a:off x="5456880" y="3818880"/>
              <a:ext cx="0" cy="8240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57"/>
            <p:cNvSpPr/>
            <p:nvPr/>
          </p:nvSpPr>
          <p:spPr>
            <a:xfrm flipV="1">
              <a:off x="7772040" y="3818880"/>
              <a:ext cx="0" cy="8240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58"/>
            <p:cNvSpPr/>
            <p:nvPr/>
          </p:nvSpPr>
          <p:spPr>
            <a:xfrm>
              <a:off x="5456880" y="3819240"/>
              <a:ext cx="86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59"/>
            <p:cNvSpPr/>
            <p:nvPr/>
          </p:nvSpPr>
          <p:spPr>
            <a:xfrm flipH="1">
              <a:off x="6830280" y="3819240"/>
              <a:ext cx="9417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60"/>
            <p:cNvSpPr/>
            <p:nvPr/>
          </p:nvSpPr>
          <p:spPr>
            <a:xfrm>
              <a:off x="6123960" y="3505320"/>
              <a:ext cx="1807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ctr">
              <a:normAutofit/>
            </a:bodyPr>
            <a:p>
              <a:pPr algn="ctr">
                <a:spcBef>
                  <a:spcPts val="3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1"/>
            <p:cNvSpPr/>
            <p:nvPr/>
          </p:nvSpPr>
          <p:spPr>
            <a:xfrm>
              <a:off x="6921720" y="3570480"/>
              <a:ext cx="1965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ctr">
              <a:normAutofit/>
            </a:bodyPr>
            <a:p>
              <a:pPr algn="ctr">
                <a:spcBef>
                  <a:spcPts val="2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7615080" y="4643280"/>
              <a:ext cx="313920" cy="1020240"/>
            </a:xfrm>
            <a:prstGeom prst="rect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63"/>
            <p:cNvSpPr/>
            <p:nvPr/>
          </p:nvSpPr>
          <p:spPr>
            <a:xfrm>
              <a:off x="5238000" y="5043600"/>
              <a:ext cx="3589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ctr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64"/>
            <p:cNvSpPr/>
            <p:nvPr/>
          </p:nvSpPr>
          <p:spPr>
            <a:xfrm>
              <a:off x="7604640" y="5043600"/>
              <a:ext cx="3474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ctr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65"/>
            <p:cNvSpPr/>
            <p:nvPr/>
          </p:nvSpPr>
          <p:spPr>
            <a:xfrm>
              <a:off x="5927760" y="4178880"/>
              <a:ext cx="1334160" cy="1137960"/>
            </a:xfrm>
            <a:custGeom>
              <a:avLst/>
              <a:gdLst>
                <a:gd name="textAreaLeft" fmla="*/ 0 w 1334160"/>
                <a:gd name="textAreaRight" fmla="*/ 1334520 w 1334160"/>
                <a:gd name="textAreaTop" fmla="*/ 0 h 1137960"/>
                <a:gd name="textAreaBottom" fmla="*/ 406440 h 11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66"/>
            <p:cNvSpPr/>
            <p:nvPr/>
          </p:nvSpPr>
          <p:spPr>
            <a:xfrm>
              <a:off x="5929200" y="4748040"/>
              <a:ext cx="334800" cy="824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7"/>
            <p:cNvSpPr/>
            <p:nvPr/>
          </p:nvSpPr>
          <p:spPr>
            <a:xfrm>
              <a:off x="6924960" y="4748040"/>
              <a:ext cx="343080" cy="824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68"/>
            <p:cNvSpPr/>
            <p:nvPr/>
          </p:nvSpPr>
          <p:spPr>
            <a:xfrm>
              <a:off x="6356160" y="3583800"/>
              <a:ext cx="301320" cy="51012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ctr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9"/>
            <p:cNvSpPr/>
            <p:nvPr/>
          </p:nvSpPr>
          <p:spPr>
            <a:xfrm>
              <a:off x="5025240" y="5683320"/>
              <a:ext cx="9172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t">
              <a:normAutofit/>
            </a:bodyPr>
            <a:p>
              <a:pPr>
                <a:spcBef>
                  <a:spcPts val="201"/>
                </a:spcBef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66"/>
                  </a:solidFill>
                  <a:latin typeface="Arial"/>
                </a:rPr>
                <a:t>Cd(NO</a:t>
              </a:r>
              <a:r>
                <a:rPr b="0" lang="en-US" sz="8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r>
                <a:rPr b="0" lang="en-US" sz="8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r>
                <a:rPr b="0" lang="en-US" sz="800" spc="-1" strike="noStrike" baseline="-25000">
                  <a:solidFill>
                    <a:srgbClr val="000066"/>
                  </a:solidFill>
                  <a:latin typeface="Arial"/>
                </a:rPr>
                <a:t>2(aq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70"/>
            <p:cNvSpPr/>
            <p:nvPr/>
          </p:nvSpPr>
          <p:spPr>
            <a:xfrm>
              <a:off x="7418880" y="5663880"/>
              <a:ext cx="7491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t">
              <a:normAutofit/>
            </a:bodyPr>
            <a:p>
              <a:pPr>
                <a:spcBef>
                  <a:spcPts val="201"/>
                </a:spcBef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66"/>
                  </a:solidFill>
                  <a:latin typeface="Arial"/>
                </a:rPr>
                <a:t>AgNO</a:t>
              </a:r>
              <a:r>
                <a:rPr b="0" lang="en-US" sz="800" spc="-1" strike="noStrike" baseline="-25000">
                  <a:solidFill>
                    <a:srgbClr val="000066"/>
                  </a:solidFill>
                  <a:latin typeface="Arial"/>
                </a:rPr>
                <a:t>3(aq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71"/>
            <p:cNvSpPr/>
            <p:nvPr/>
          </p:nvSpPr>
          <p:spPr>
            <a:xfrm>
              <a:off x="4397400" y="5193000"/>
              <a:ext cx="5227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t">
              <a:normAutofit/>
            </a:bodyPr>
            <a:p>
              <a:pPr>
                <a:spcBef>
                  <a:spcPts val="2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72"/>
            <p:cNvSpPr/>
            <p:nvPr/>
          </p:nvSpPr>
          <p:spPr>
            <a:xfrm>
              <a:off x="8282160" y="5193000"/>
              <a:ext cx="6422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t">
              <a:normAutofit/>
            </a:bodyPr>
            <a:p>
              <a:pPr>
                <a:spcBef>
                  <a:spcPts val="2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h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73"/>
            <p:cNvGrpSpPr/>
            <p:nvPr/>
          </p:nvGrpSpPr>
          <p:grpSpPr>
            <a:xfrm>
              <a:off x="6084360" y="4199400"/>
              <a:ext cx="1020600" cy="526680"/>
              <a:chOff x="6084360" y="4199400"/>
              <a:chExt cx="1020600" cy="526680"/>
            </a:xfrm>
          </p:grpSpPr>
          <p:sp>
            <p:nvSpPr>
              <p:cNvPr id="261" name="Text Box 74"/>
              <p:cNvSpPr/>
              <p:nvPr/>
            </p:nvSpPr>
            <p:spPr>
              <a:xfrm>
                <a:off x="6732360" y="4199400"/>
                <a:ext cx="28944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120" bIns="15120" anchor="t">
                <a:normAutofit/>
              </a:bodyPr>
              <a:p>
                <a:pPr>
                  <a:spcBef>
                    <a:spcPts val="224"/>
                  </a:spcBef>
                  <a:buClr>
                    <a:srgbClr val="000066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66"/>
                    </a:solidFill>
                    <a:latin typeface="Arial"/>
                  </a:rPr>
                  <a:t>K</a:t>
                </a:r>
                <a:r>
                  <a:rPr b="0" lang="en-US" sz="900" spc="-1" strike="noStrike" baseline="30000">
                    <a:solidFill>
                      <a:srgbClr val="000066"/>
                    </a:solidFill>
                    <a:latin typeface="Arial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rc 75"/>
              <p:cNvSpPr/>
              <p:nvPr/>
            </p:nvSpPr>
            <p:spPr>
              <a:xfrm>
                <a:off x="6751800" y="4417560"/>
                <a:ext cx="353160" cy="304920"/>
              </a:xfrm>
              <a:custGeom>
                <a:avLst/>
                <a:gdLst>
                  <a:gd name="textAreaLeft" fmla="*/ 0 w 353160"/>
                  <a:gd name="textAreaRight" fmla="*/ 353520 w 3531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fill="none" w="21600" h="18659">
                    <a:moveTo>
                      <a:pt x="10881" y="-1"/>
                    </a:moveTo>
                    <a:cubicBezTo>
                      <a:pt x="17518" y="3870"/>
                      <a:pt x="21600" y="10975"/>
                      <a:pt x="21600" y="18659"/>
                    </a:cubicBezTo>
                  </a:path>
                  <a:path stroke="0" w="21600" h="18659">
                    <a:moveTo>
                      <a:pt x="10881" y="-1"/>
                    </a:moveTo>
                    <a:cubicBezTo>
                      <a:pt x="17518" y="3870"/>
                      <a:pt x="21600" y="10975"/>
                      <a:pt x="21600" y="18659"/>
                    </a:cubicBezTo>
                    <a:lnTo>
                      <a:pt x="0" y="18659"/>
                    </a:lnTo>
                    <a:lnTo>
                      <a:pt x="10881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Arc 76"/>
              <p:cNvSpPr/>
              <p:nvPr/>
            </p:nvSpPr>
            <p:spPr>
              <a:xfrm flipH="1">
                <a:off x="6084000" y="4421160"/>
                <a:ext cx="353160" cy="304920"/>
              </a:xfrm>
              <a:custGeom>
                <a:avLst/>
                <a:gdLst>
                  <a:gd name="textAreaLeft" fmla="*/ -360 w 353160"/>
                  <a:gd name="textAreaRight" fmla="*/ 353160 w 3531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fill="none" w="21600" h="18659">
                    <a:moveTo>
                      <a:pt x="10881" y="-1"/>
                    </a:moveTo>
                    <a:cubicBezTo>
                      <a:pt x="17518" y="3870"/>
                      <a:pt x="21600" y="10975"/>
                      <a:pt x="21600" y="18659"/>
                    </a:cubicBezTo>
                  </a:path>
                  <a:path stroke="0" w="21600" h="18659">
                    <a:moveTo>
                      <a:pt x="10881" y="-1"/>
                    </a:moveTo>
                    <a:cubicBezTo>
                      <a:pt x="17518" y="3870"/>
                      <a:pt x="21600" y="10975"/>
                      <a:pt x="21600" y="18659"/>
                    </a:cubicBezTo>
                    <a:lnTo>
                      <a:pt x="0" y="18659"/>
                    </a:lnTo>
                    <a:lnTo>
                      <a:pt x="10881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77"/>
              <p:cNvSpPr/>
              <p:nvPr/>
            </p:nvSpPr>
            <p:spPr>
              <a:xfrm>
                <a:off x="6202440" y="4199400"/>
                <a:ext cx="49104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120" bIns="15120" anchor="t">
                <a:normAutofit/>
              </a:bodyPr>
              <a:p>
                <a:pPr>
                  <a:spcBef>
                    <a:spcPts val="300"/>
                  </a:spcBef>
                  <a:buClr>
                    <a:srgbClr val="000066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66"/>
                    </a:solidFill>
                    <a:latin typeface="Arial"/>
                  </a:rPr>
                  <a:t>NO</a:t>
                </a:r>
                <a:r>
                  <a:rPr b="0" lang="en-US" sz="900" spc="-1" strike="noStrike" baseline="-25000">
                    <a:solidFill>
                      <a:srgbClr val="000066"/>
                    </a:solidFill>
                    <a:latin typeface="Arial"/>
                  </a:rPr>
                  <a:t>3</a:t>
                </a:r>
                <a:r>
                  <a:rPr b="0" lang="en-US" sz="1200" spc="-1" strike="noStrike" baseline="30000">
                    <a:solidFill>
                      <a:srgbClr val="000066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78"/>
            <p:cNvGrpSpPr/>
            <p:nvPr/>
          </p:nvGrpSpPr>
          <p:grpSpPr>
            <a:xfrm>
              <a:off x="5025240" y="5657400"/>
              <a:ext cx="2955600" cy="274680"/>
              <a:chOff x="5025240" y="5657400"/>
              <a:chExt cx="2955600" cy="274680"/>
            </a:xfrm>
          </p:grpSpPr>
          <p:sp>
            <p:nvSpPr>
              <p:cNvPr id="266" name="Oval 79"/>
              <p:cNvSpPr/>
              <p:nvPr/>
            </p:nvSpPr>
            <p:spPr>
              <a:xfrm>
                <a:off x="5025240" y="5657400"/>
                <a:ext cx="274680" cy="274680"/>
              </a:xfrm>
              <a:prstGeom prst="ellipse">
                <a:avLst/>
              </a:prstGeom>
              <a:noFill/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80"/>
              <p:cNvSpPr/>
              <p:nvPr/>
            </p:nvSpPr>
            <p:spPr>
              <a:xfrm>
                <a:off x="7608240" y="5657400"/>
                <a:ext cx="372600" cy="274680"/>
              </a:xfrm>
              <a:prstGeom prst="ellipse">
                <a:avLst/>
              </a:prstGeom>
              <a:noFill/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81"/>
            <p:cNvGrpSpPr/>
            <p:nvPr/>
          </p:nvGrpSpPr>
          <p:grpSpPr>
            <a:xfrm>
              <a:off x="5258160" y="5571360"/>
              <a:ext cx="2403720" cy="417240"/>
              <a:chOff x="5258160" y="5571360"/>
              <a:chExt cx="2403720" cy="417240"/>
            </a:xfrm>
          </p:grpSpPr>
          <p:cxnSp>
            <p:nvCxnSpPr>
              <p:cNvPr id="269" name="AutoShape 82"/>
              <p:cNvCxnSpPr/>
              <p:nvPr/>
            </p:nvCxnSpPr>
            <p:spPr>
              <a:xfrm flipH="1" flipV="1" rot="5400000">
                <a:off x="5509800" y="5319720"/>
                <a:ext cx="330120" cy="833400"/>
              </a:xfrm>
              <a:prstGeom prst="curvedConnector5">
                <a:avLst>
                  <a:gd name="adj1" fmla="val -26528"/>
                  <a:gd name="adj2" fmla="val 50000"/>
                  <a:gd name="adj3" fmla="val -26528"/>
                </a:avLst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</p:cxnSp>
          <p:cxnSp>
            <p:nvCxnSpPr>
              <p:cNvPr id="270" name="AutoShape 83"/>
              <p:cNvCxnSpPr/>
              <p:nvPr/>
            </p:nvCxnSpPr>
            <p:spPr>
              <a:xfrm flipV="1" rot="16200000">
                <a:off x="7213680" y="5452920"/>
                <a:ext cx="330120" cy="567000"/>
              </a:xfrm>
              <a:prstGeom prst="curvedConnector5">
                <a:avLst>
                  <a:gd name="adj1" fmla="val -26528"/>
                  <a:gd name="adj2" fmla="val 50000"/>
                  <a:gd name="adj3" fmla="val -26528"/>
                </a:avLst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</p:cxnSp>
        </p:grpSp>
        <p:grpSp>
          <p:nvGrpSpPr>
            <p:cNvPr id="271" name="Group 84"/>
            <p:cNvGrpSpPr/>
            <p:nvPr/>
          </p:nvGrpSpPr>
          <p:grpSpPr>
            <a:xfrm>
              <a:off x="5222880" y="3559680"/>
              <a:ext cx="311760" cy="612360"/>
              <a:chOff x="5222880" y="3559680"/>
              <a:chExt cx="311760" cy="612360"/>
            </a:xfrm>
          </p:grpSpPr>
          <p:sp>
            <p:nvSpPr>
              <p:cNvPr id="272" name="AutoShape 85"/>
              <p:cNvSpPr/>
              <p:nvPr/>
            </p:nvSpPr>
            <p:spPr>
              <a:xfrm>
                <a:off x="5260320" y="3559680"/>
                <a:ext cx="274320" cy="353160"/>
              </a:xfrm>
              <a:custGeom>
                <a:avLst/>
                <a:gdLst>
                  <a:gd name="textAreaLeft" fmla="*/ 157680 w 274320"/>
                  <a:gd name="textAreaRight" fmla="*/ 231840 w 274320"/>
                  <a:gd name="textAreaTop" fmla="*/ 47160 h 353160"/>
                  <a:gd name="textAreaBottom" fmla="*/ 151200 h 35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cccc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86"/>
              <p:cNvSpPr/>
              <p:nvPr/>
            </p:nvSpPr>
            <p:spPr>
              <a:xfrm>
                <a:off x="5222880" y="3873600"/>
                <a:ext cx="2336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120" bIns="15120" anchor="ctr">
                <a:normAutofit/>
              </a:bodyPr>
              <a:p>
                <a:pPr algn="ctr">
                  <a:spcBef>
                    <a:spcPts val="24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0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Text Box 87"/>
            <p:cNvSpPr/>
            <p:nvPr/>
          </p:nvSpPr>
          <p:spPr>
            <a:xfrm>
              <a:off x="8100720" y="4172400"/>
              <a:ext cx="8773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t">
              <a:normAutofit/>
            </a:bodyPr>
            <a:p>
              <a:pPr algn="ctr">
                <a:spcBef>
                  <a:spcPts val="2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-) char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Rectangle 88"/>
          <p:cNvSpPr/>
          <p:nvPr/>
        </p:nvSpPr>
        <p:spPr>
          <a:xfrm>
            <a:off x="5373720" y="180180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.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9"/>
          <p:cNvSpPr/>
          <p:nvPr/>
        </p:nvSpPr>
        <p:spPr>
          <a:xfrm>
            <a:off x="20520" y="254484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an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0"/>
          <p:cNvSpPr/>
          <p:nvPr/>
        </p:nvSpPr>
        <p:spPr>
          <a:xfrm>
            <a:off x="1219320" y="1909800"/>
            <a:ext cx="2361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.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91"/>
          <p:cNvSpPr/>
          <p:nvPr/>
        </p:nvSpPr>
        <p:spPr>
          <a:xfrm>
            <a:off x="3854520" y="2492280"/>
            <a:ext cx="4419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0.80-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.4)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20520" y="3395520"/>
            <a:ext cx="38862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1"/>
          <p:cNvSpPr/>
          <p:nvPr/>
        </p:nvSpPr>
        <p:spPr>
          <a:xfrm>
            <a:off x="20520" y="4143240"/>
            <a:ext cx="38862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.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8"/>
          <p:cNvSpPr/>
          <p:nvPr/>
        </p:nvSpPr>
        <p:spPr>
          <a:xfrm>
            <a:off x="1676520" y="30481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РНСТОВ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ЈЕДНАЧ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4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терије су уређаји у којима се хемијска енергија оксидоредукционих реакција  претвара у електричну енергију. Област физичке хемије која проуча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твар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ијс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нерг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ичну енергију назива се електрохем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fig17_13"/>
          <p:cNvPicPr/>
          <p:nvPr/>
        </p:nvPicPr>
        <p:blipFill>
          <a:blip r:embed="rId1"/>
          <a:stretch/>
        </p:blipFill>
        <p:spPr>
          <a:xfrm>
            <a:off x="609480" y="1600200"/>
            <a:ext cx="1390680" cy="2224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84480" y="3962520"/>
            <a:ext cx="25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лов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умул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fig17_14"/>
          <p:cNvPicPr/>
          <p:nvPr/>
        </p:nvPicPr>
        <p:blipFill>
          <a:blip r:embed="rId2"/>
          <a:stretch/>
        </p:blipFill>
        <p:spPr>
          <a:xfrm>
            <a:off x="3048120" y="1676520"/>
            <a:ext cx="1623960" cy="2133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3207240" y="3733920"/>
            <a:ext cx="18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атер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fig17_15"/>
          <p:cNvPicPr/>
          <p:nvPr/>
        </p:nvPicPr>
        <p:blipFill>
          <a:blip r:embed="rId3"/>
          <a:srcRect l="0" t="0" r="0" b="16282"/>
          <a:stretch/>
        </p:blipFill>
        <p:spPr>
          <a:xfrm>
            <a:off x="5257800" y="1600200"/>
            <a:ext cx="3052800" cy="27432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1"/>
          <p:cNvSpPr/>
          <p:nvPr/>
        </p:nvSpPr>
        <p:spPr>
          <a:xfrm>
            <a:off x="5277960" y="4278240"/>
            <a:ext cx="22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ивина батер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7522n17_16"/>
          <p:cNvPicPr/>
          <p:nvPr/>
        </p:nvPicPr>
        <p:blipFill>
          <a:blip r:embed="rId4"/>
          <a:stretch/>
        </p:blipFill>
        <p:spPr>
          <a:xfrm>
            <a:off x="609480" y="4267080"/>
            <a:ext cx="1629000" cy="2590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3"/>
          <p:cNvSpPr/>
          <p:nvPr/>
        </p:nvSpPr>
        <p:spPr>
          <a:xfrm>
            <a:off x="2286000" y="472428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одонич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сеонич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и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е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14"/>
          <p:cNvGraphicFramePr/>
          <p:nvPr/>
        </p:nvGraphicFramePr>
        <p:xfrm>
          <a:off x="5943600" y="4657680"/>
          <a:ext cx="2763720" cy="220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4657680"/>
                    <a:ext cx="276372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7" descr="Image result for pacemaker principe"/>
          <p:cNvPicPr/>
          <p:nvPr/>
        </p:nvPicPr>
        <p:blipFill>
          <a:blip r:embed="rId7"/>
          <a:stretch/>
        </p:blipFill>
        <p:spPr>
          <a:xfrm>
            <a:off x="3886200" y="5181480"/>
            <a:ext cx="1828800" cy="1492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4123800" y="4800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јсмејк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7"/>
          <p:cNvSpPr/>
          <p:nvPr/>
        </p:nvSpPr>
        <p:spPr>
          <a:xfrm>
            <a:off x="2349720" y="55440"/>
            <a:ext cx="44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РЕД-ОКС реакциј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5"/>
              <p:cNvSpPr txBox="1"/>
              <p:nvPr/>
            </p:nvSpPr>
            <p:spPr>
              <a:xfrm>
                <a:off x="533520" y="677880"/>
                <a:ext cx="3811320" cy="22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4" name="TextBox 12"/>
          <p:cNvSpPr/>
          <p:nvPr/>
        </p:nvSpPr>
        <p:spPr>
          <a:xfrm>
            <a:off x="3626280" y="1500120"/>
            <a:ext cx="549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Оксидација отпуштање елект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Редукција примање електр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6"/>
              <p:cNvSpPr txBox="1"/>
              <p:nvPr/>
            </p:nvSpPr>
            <p:spPr>
              <a:xfrm>
                <a:off x="0" y="3048120"/>
                <a:ext cx="42148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6" name="Rectangle 14"/>
          <p:cNvSpPr/>
          <p:nvPr/>
        </p:nvSpPr>
        <p:spPr>
          <a:xfrm>
            <a:off x="0" y="5205240"/>
            <a:ext cx="9144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227160" indent="-227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лобод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нерг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окс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ат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аксимални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рисни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слобађ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да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кол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да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кол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7160" indent="-227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  <a:ea typeface="Arial"/>
              </a:rPr>
              <a:t>Δ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G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= -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7160" indent="-22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2362320" y="4038480"/>
                <a:ext cx="3752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" name="TextBox 8"/>
          <p:cNvSpPr/>
          <p:nvPr/>
        </p:nvSpPr>
        <p:spPr>
          <a:xfrm>
            <a:off x="4572000" y="2936880"/>
            <a:ext cx="37656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 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у чврсте супстанц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3805200" y="38160"/>
                <a:ext cx="39718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2557440" y="2135160"/>
                <a:ext cx="49420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E</m:t>
                        </m:r>
                      </m:e>
                      <m:sub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5562720" y="1371600"/>
                <a:ext cx="23050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FE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5"/>
              <p:cNvSpPr txBox="1"/>
              <p:nvPr/>
            </p:nvSpPr>
            <p:spPr>
              <a:xfrm>
                <a:off x="3733920" y="3376440"/>
                <a:ext cx="440676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7"/>
              <p:cNvSpPr txBox="1"/>
              <p:nvPr/>
            </p:nvSpPr>
            <p:spPr>
              <a:xfrm>
                <a:off x="2971800" y="1523880"/>
                <a:ext cx="20080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FE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94" name="Straight Arrow Connector 10"/>
          <p:cNvCxnSpPr/>
          <p:nvPr/>
        </p:nvCxnSpPr>
        <p:spPr>
          <a:xfrm>
            <a:off x="3181320" y="1866600"/>
            <a:ext cx="381600" cy="686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5" name="Straight Arrow Connector 12"/>
          <p:cNvCxnSpPr/>
          <p:nvPr/>
        </p:nvCxnSpPr>
        <p:spPr>
          <a:xfrm flipH="1">
            <a:off x="5257440" y="1904760"/>
            <a:ext cx="534240" cy="610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96" name="TextBox 13"/>
          <p:cNvSpPr/>
          <p:nvPr/>
        </p:nvSpPr>
        <p:spPr>
          <a:xfrm>
            <a:off x="0" y="3454560"/>
            <a:ext cx="340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купни потенцијал ће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5"/>
          <p:cNvSpPr/>
          <p:nvPr/>
        </p:nvSpPr>
        <p:spPr>
          <a:xfrm>
            <a:off x="152280" y="5060880"/>
            <a:ext cx="9144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тандардн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отенциал 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тенцијал при стандардним условима: концентрација 1 мол по лит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 =298K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стандардни потенцијал електрохемијске ћелиј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Straight Arrow Connector 17"/>
          <p:cNvCxnSpPr/>
          <p:nvPr/>
        </p:nvCxnSpPr>
        <p:spPr>
          <a:xfrm flipH="1">
            <a:off x="2944440" y="3992040"/>
            <a:ext cx="9295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9" name="Straight Arrow Connector 18"/>
          <p:cNvCxnSpPr>
            <a:endCxn id="297" idx="0"/>
          </p:cNvCxnSpPr>
          <p:nvPr/>
        </p:nvCxnSpPr>
        <p:spPr>
          <a:xfrm flipH="1">
            <a:off x="4723560" y="4240080"/>
            <a:ext cx="305640" cy="821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00" name="Object 13"/>
              <p:cNvSpPr txBox="1"/>
              <p:nvPr/>
            </p:nvSpPr>
            <p:spPr>
              <a:xfrm>
                <a:off x="399960" y="0"/>
                <a:ext cx="3048120" cy="17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5"/>
          <p:cNvSpPr/>
          <p:nvPr/>
        </p:nvSpPr>
        <p:spPr>
          <a:xfrm>
            <a:off x="0" y="4191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ндардн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лов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2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98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мен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радејев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стан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бић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228600" y="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андардн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лободн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нергиј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андардн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ћелије: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27"/>
              <p:cNvSpPr txBox="1"/>
              <p:nvPr/>
            </p:nvSpPr>
            <p:spPr>
              <a:xfrm>
                <a:off x="2928960" y="2924280"/>
                <a:ext cx="298296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"/>
              <p:cNvSpPr txBox="1"/>
              <p:nvPr/>
            </p:nvSpPr>
            <p:spPr>
              <a:xfrm>
                <a:off x="809640" y="1219320"/>
                <a:ext cx="3324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2"/>
              <p:cNvSpPr txBox="1"/>
              <p:nvPr/>
            </p:nvSpPr>
            <p:spPr>
              <a:xfrm>
                <a:off x="5257800" y="1295280"/>
                <a:ext cx="2963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FE</m:t>
                        </m:r>
                      </m:e>
                      <m:sup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3"/>
              <p:cNvSpPr txBox="1"/>
              <p:nvPr/>
            </p:nvSpPr>
            <p:spPr>
              <a:xfrm>
                <a:off x="2570040" y="2133720"/>
                <a:ext cx="4002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FE</m:t>
                        </m:r>
                      </m:e>
                      <m:sup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266760" y="5450040"/>
                <a:ext cx="441324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48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K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7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5"/>
              <p:cNvSpPr txBox="1"/>
              <p:nvPr/>
            </p:nvSpPr>
            <p:spPr>
              <a:xfrm>
                <a:off x="5410080" y="5334120"/>
                <a:ext cx="29718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7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0"/>
          <p:cNvSpPr/>
          <p:nvPr/>
        </p:nvSpPr>
        <p:spPr>
          <a:xfrm>
            <a:off x="0" y="228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ХЕМИЈС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ЦЕС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ПОНТАНОС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ВНО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1"/>
              <p:cNvSpPr txBox="1"/>
              <p:nvPr/>
            </p:nvSpPr>
            <p:spPr>
              <a:xfrm>
                <a:off x="304920" y="1182600"/>
                <a:ext cx="298296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2"/>
              <p:cNvSpPr txBox="1"/>
              <p:nvPr/>
            </p:nvSpPr>
            <p:spPr>
              <a:xfrm>
                <a:off x="165240" y="2438280"/>
                <a:ext cx="440676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5029200" y="2590920"/>
                <a:ext cx="30481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13" name=""/>
          <p:cNvGraphicFramePr/>
          <p:nvPr/>
        </p:nvGraphicFramePr>
        <p:xfrm>
          <a:off x="190440" y="4038480"/>
          <a:ext cx="8763120" cy="2590920"/>
        </p:xfrm>
        <a:graphic>
          <a:graphicData uri="http://schemas.openxmlformats.org/drawingml/2006/table">
            <a:tbl>
              <a:tblPr/>
              <a:tblGrid>
                <a:gridCol w="2190960"/>
                <a:gridCol w="2190600"/>
                <a:gridCol w="2190600"/>
                <a:gridCol w="2190960"/>
              </a:tblGrid>
              <a:tr h="14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нтан проце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понтан проце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нотеж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4" name="Picture 7" descr=""/>
          <p:cNvPicPr/>
          <p:nvPr/>
        </p:nvPicPr>
        <p:blipFill>
          <a:blip r:embed="rId1"/>
          <a:stretch/>
        </p:blipFill>
        <p:spPr>
          <a:xfrm>
            <a:off x="5334120" y="719280"/>
            <a:ext cx="358128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1"/>
          <p:cNvSpPr/>
          <p:nvPr/>
        </p:nvSpPr>
        <p:spPr>
          <a:xfrm>
            <a:off x="380880" y="219240"/>
            <a:ext cx="8305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БАТЕР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атеријама се назива  сет галванских, напонских ћелија које су повезане у сер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гативна електрода једне ћелије се повезује са позитивном електродом друге ћелије. Напон таквог сета ћелија је које су повезане у серију даје збир напона свих ћелија у с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ко батерија од 9 волти саржи шест ћелија чији је напон 1.5 вол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уве батерије п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тају да прозводе струју када се  потроше реактанти, односно кад систем дође у равнотежу. Батерије могу бити оне које су примарне и које се након пражњења бацају а могу бити и секундарне  то су оне  које се регенеришу, тако што се довођењем електричне енергије одвија реверзибилни процес, који  се назива пуњење батериј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1" descr="19.13.jpg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434340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4"/>
          <p:cNvSpPr/>
          <p:nvPr/>
        </p:nvSpPr>
        <p:spPr>
          <a:xfrm>
            <a:off x="1143000" y="78732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РАЗЛИЧИТИ ТИПОВИ БАТЕРИЈ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0" y="685800"/>
            <a:ext cx="8915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Суве батерије садрже цинк као аноду и инертан графит као катоду. Електролит је влажна паста манг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V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оксид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и цинк хлорид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Zn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амонијум хлорид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 праха угље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ксидациона полуреакција ј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09520" y="2971800"/>
          <a:ext cx="5334120" cy="517680"/>
        </p:xfrm>
        <a:graphic>
          <a:graphicData uri="http://schemas.openxmlformats.org/drawingml/2006/table">
            <a:tbl>
              <a:tblPr/>
              <a:tblGrid>
                <a:gridCol w="2284560"/>
                <a:gridCol w="815760"/>
                <a:gridCol w="2233800"/>
              </a:tblGrid>
              <a:tr h="57672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TextBox 3"/>
          <p:cNvSpPr/>
          <p:nvPr/>
        </p:nvSpPr>
        <p:spPr>
          <a:xfrm>
            <a:off x="0" y="3657600"/>
            <a:ext cx="914400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Редукциона полуреакција 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(s)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)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+ 2e− → Mn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(s)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+ 2OH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Тако да је укупна оксидоредукциона реакц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Zn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→ Mn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3(s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+ Zn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2OH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пон ов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 батерија износи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5 V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8160" y="152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СУВЕ БАТЕРИЈ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228600" y="38160"/>
            <a:ext cx="8534520" cy="68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ЛКАЛНЕ БА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Милони алкалних батерија се произведе сваке године, у тим батеријама амонијум хлори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и цинкхлорид су замењени калијум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хидроксид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KOH.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олуреакције у тим батеријама с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ксидациони ступањ који се одиграва на анод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2OH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→ Zn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H2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l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2e−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Редукциони ступањ који се одиграва на катод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(s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+ 2 H2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l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+ 2e− → Mn(OH)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2OH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Укупна реакција ј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H2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→ Zn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Mn(OH)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(s)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у случају сваке ћелије укључене у алкалну батерију Напон једне ћелије је такође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5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"/>
          <p:cNvSpPr/>
          <p:nvPr/>
        </p:nvSpPr>
        <p:spPr>
          <a:xfrm>
            <a:off x="152280" y="304920"/>
            <a:ext cx="899172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лочасте  - минијатурне батерије – живине ба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вај тип батерија се у принципу користи за покретање сатних механизама, користе се у пејсмекерима или слушним апарат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рвобитне батерије које су развијане као минијатурне плочасте („дугме“) батерије су имале следеће полурак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ксидациона полуреакциј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2OH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→ Zn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l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2e−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Редукциона полуреакц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Hg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+ 2e− → Hg 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l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+ 2OH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Укупна реакција : Zn(s) + HgO(s) → ZnO(s) + Hg 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пон једне ћелије у батерији  је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ко је HgO(s)  замењен са Ag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нда је напон једне ћелије је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http://chem.libretexts.org/@api/deki/files/18390/=310px-Coin-cells.jpg?revision=1&amp;size=bestfit&amp;width=310&amp;height=220"/>
          <p:cNvPicPr/>
          <p:nvPr/>
        </p:nvPicPr>
        <p:blipFill>
          <a:blip r:embed="rId1"/>
          <a:stretch/>
        </p:blipFill>
        <p:spPr>
          <a:xfrm>
            <a:off x="6477120" y="2622600"/>
            <a:ext cx="2465280" cy="17352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2"/>
          <p:cNvSpPr/>
          <p:nvPr/>
        </p:nvSpPr>
        <p:spPr>
          <a:xfrm>
            <a:off x="252360" y="6019920"/>
            <a:ext cx="79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(s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E= 1.56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228600" y="152280"/>
            <a:ext cx="870588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ејсмекерске ба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атерије које се зову суве батерије садрже мале количине воде у себи јер су електролити влажни прахови, што ограничава њихову употребу у специфичним условима, тако да су развијене и батерије који не сардже у себи воду, већ имају чврст електрол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кав тип батерија су литијум-јод батерије.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вај тип батерија се користи у пејсмекерим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нода је метални литијум, а катода је чврст комплекс јода  I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раздвојени су слојем чврстог литијумјодида LiI, који игра улогу електролита јер јони литијума могу да дифундују Li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. Електродне реакције у овој батерији су следећ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103320" y="4713120"/>
            <a:ext cx="895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ед. полуреакција I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s) + 2e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→ 2I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LiI)    Е=+0.535 V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0" y="5181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кс. полуреакција 2Li(s) → 2Li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LiI) + 2e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−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=- 3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145080" y="5643720"/>
            <a:ext cx="513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купна оксидоредуциона реакц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Li(s) + I2(s)→2LiI(s) 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=3.5 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pacemaker.jpg"/>
          <p:cNvPicPr/>
          <p:nvPr/>
        </p:nvPicPr>
        <p:blipFill>
          <a:blip r:embed="rId1"/>
          <a:stretch/>
        </p:blipFill>
        <p:spPr>
          <a:xfrm>
            <a:off x="7134120" y="5543640"/>
            <a:ext cx="1940040" cy="11872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"/>
          <p:cNvSpPr/>
          <p:nvPr/>
        </p:nvSpPr>
        <p:spPr>
          <a:xfrm>
            <a:off x="98280" y="6407280"/>
            <a:ext cx="70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lithium/iodine-polyvinylpyridine (PVP) batter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21_04"/>
          <p:cNvPicPr/>
          <p:nvPr/>
        </p:nvPicPr>
        <p:blipFill>
          <a:blip r:embed="rId1"/>
          <a:srcRect l="0" t="0" r="0" b="14581"/>
          <a:stretch/>
        </p:blipFill>
        <p:spPr>
          <a:xfrm>
            <a:off x="0" y="-458640"/>
            <a:ext cx="9144000" cy="6249960"/>
          </a:xfrm>
          <a:prstGeom prst="rect">
            <a:avLst/>
          </a:prstGeom>
          <a:ln w="0">
            <a:noFill/>
          </a:ln>
        </p:spPr>
      </p:pic>
      <p:sp>
        <p:nvSpPr>
          <p:cNvPr id="73" name="TextBox 10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акар ће се спонтано таложити на металном цинку </a:t>
            </a: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5720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lvl="2" marL="1083240" indent="-361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C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Cu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6"/>
          <p:cNvSpPr/>
          <p:nvPr/>
        </p:nvSpPr>
        <p:spPr>
          <a:xfrm>
            <a:off x="0" y="0"/>
            <a:ext cx="883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та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гу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он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 таложи на металном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7"/>
          <p:cNvSpPr/>
          <p:nvPr/>
        </p:nvSpPr>
        <p:spPr>
          <a:xfrm>
            <a:off x="1508040" y="1768320"/>
            <a:ext cx="685800" cy="685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8"/>
          <p:cNvSpPr/>
          <p:nvPr/>
        </p:nvSpPr>
        <p:spPr>
          <a:xfrm>
            <a:off x="1508040" y="2454120"/>
            <a:ext cx="685800" cy="685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9"/>
          <p:cNvSpPr/>
          <p:nvPr/>
        </p:nvSpPr>
        <p:spPr>
          <a:xfrm>
            <a:off x="1508040" y="3139920"/>
            <a:ext cx="685800" cy="6858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0"/>
          <p:cNvSpPr/>
          <p:nvPr/>
        </p:nvSpPr>
        <p:spPr>
          <a:xfrm>
            <a:off x="898560" y="2797200"/>
            <a:ext cx="685800" cy="6858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1"/>
          <p:cNvSpPr/>
          <p:nvPr/>
        </p:nvSpPr>
        <p:spPr>
          <a:xfrm>
            <a:off x="898560" y="2111400"/>
            <a:ext cx="685800" cy="6858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52"/>
          <p:cNvSpPr/>
          <p:nvPr/>
        </p:nvSpPr>
        <p:spPr>
          <a:xfrm>
            <a:off x="289080" y="1768320"/>
            <a:ext cx="685800" cy="6858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3"/>
          <p:cNvSpPr/>
          <p:nvPr/>
        </p:nvSpPr>
        <p:spPr>
          <a:xfrm>
            <a:off x="289080" y="2454120"/>
            <a:ext cx="685800" cy="6858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4"/>
          <p:cNvSpPr/>
          <p:nvPr/>
        </p:nvSpPr>
        <p:spPr>
          <a:xfrm>
            <a:off x="289080" y="3139920"/>
            <a:ext cx="685800" cy="6858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55"/>
          <p:cNvSpPr/>
          <p:nvPr/>
        </p:nvSpPr>
        <p:spPr>
          <a:xfrm>
            <a:off x="898560" y="1425600"/>
            <a:ext cx="685800" cy="6858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6"/>
          <p:cNvSpPr/>
          <p:nvPr/>
        </p:nvSpPr>
        <p:spPr>
          <a:xfrm>
            <a:off x="898560" y="3483000"/>
            <a:ext cx="685800" cy="68580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7"/>
          <p:cNvSpPr/>
          <p:nvPr/>
        </p:nvSpPr>
        <p:spPr>
          <a:xfrm>
            <a:off x="3527280" y="1082520"/>
            <a:ext cx="685800" cy="6858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8"/>
          <p:cNvSpPr/>
          <p:nvPr/>
        </p:nvSpPr>
        <p:spPr>
          <a:xfrm>
            <a:off x="2117880" y="1463760"/>
            <a:ext cx="685800" cy="68580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59"/>
          <p:cNvSpPr/>
          <p:nvPr/>
        </p:nvSpPr>
        <p:spPr>
          <a:xfrm>
            <a:off x="3527280" y="3483000"/>
            <a:ext cx="685800" cy="68580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0"/>
          <p:cNvSpPr/>
          <p:nvPr/>
        </p:nvSpPr>
        <p:spPr>
          <a:xfrm>
            <a:off x="2117880" y="2797200"/>
            <a:ext cx="685800" cy="68580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1"/>
          <p:cNvSpPr/>
          <p:nvPr/>
        </p:nvSpPr>
        <p:spPr>
          <a:xfrm>
            <a:off x="1521720" y="99072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e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85"/>
          <p:cNvCxnSpPr>
            <a:stCxn id="76" idx="0"/>
            <a:endCxn id="87" idx="0"/>
          </p:cNvCxnSpPr>
          <p:nvPr/>
        </p:nvCxnSpPr>
        <p:spPr>
          <a:xfrm flipH="1" flipV="1" rot="5400000">
            <a:off x="2003040" y="1310760"/>
            <a:ext cx="305280" cy="610200"/>
          </a:xfrm>
          <a:prstGeom prst="curvedConnector5">
            <a:avLst>
              <a:gd name="adj1" fmla="val 174970"/>
              <a:gd name="adj2" fmla="val 50000"/>
              <a:gd name="adj3" fmla="val 1749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86"/>
          <p:cNvCxnSpPr>
            <a:stCxn id="78" idx="4"/>
            <a:endCxn id="88" idx="3"/>
          </p:cNvCxnSpPr>
          <p:nvPr/>
        </p:nvCxnSpPr>
        <p:spPr>
          <a:xfrm flipH="1" rot="16200000">
            <a:off x="2617560" y="3058560"/>
            <a:ext cx="243720" cy="1776960"/>
          </a:xfrm>
          <a:prstGeom prst="curvedConnector5">
            <a:avLst>
              <a:gd name="adj1" fmla="val 235207"/>
              <a:gd name="adj2" fmla="val 49989"/>
              <a:gd name="adj3" fmla="val 23520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AutoShape 87"/>
          <p:cNvCxnSpPr>
            <a:stCxn id="86" idx="1"/>
            <a:endCxn id="87" idx="7"/>
          </p:cNvCxnSpPr>
          <p:nvPr/>
        </p:nvCxnSpPr>
        <p:spPr>
          <a:xfrm rot="5400000">
            <a:off x="2974320" y="910440"/>
            <a:ext cx="381960" cy="924480"/>
          </a:xfrm>
          <a:prstGeom prst="curvedConnector5">
            <a:avLst>
              <a:gd name="adj1" fmla="val -86226"/>
              <a:gd name="adj2" fmla="val 49980"/>
              <a:gd name="adj3" fmla="val -8622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94" name=""/>
          <p:cNvGraphicFramePr/>
          <p:nvPr/>
        </p:nvGraphicFramePr>
        <p:xfrm>
          <a:off x="3565440" y="1828800"/>
          <a:ext cx="5334120" cy="1554120"/>
        </p:xfrm>
        <a:graphic>
          <a:graphicData uri="http://schemas.openxmlformats.org/drawingml/2006/table">
            <a:tbl>
              <a:tblPr/>
              <a:tblGrid>
                <a:gridCol w="2284560"/>
                <a:gridCol w="815760"/>
                <a:gridCol w="2233800"/>
              </a:tblGrid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s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u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u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23"/>
          <p:cNvSpPr/>
          <p:nvPr/>
        </p:nvSpPr>
        <p:spPr>
          <a:xfrm>
            <a:off x="0" y="5904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ако настаје хемијски извор струје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6"/>
          <p:cNvSpPr/>
          <p:nvPr/>
        </p:nvSpPr>
        <p:spPr>
          <a:xfrm>
            <a:off x="0" y="4343400"/>
            <a:ext cx="8839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ксидоредукцио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лободи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ерги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потреби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ш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0" y="0"/>
            <a:ext cx="9144000" cy="160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с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они у расвор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n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a  Cu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жу металним проводником и раствори повеж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водним мостом, спонтано ће настати кретање електрона. кроз метални проводник и јона кроз проводни мост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5"/>
          <p:cNvGrpSpPr/>
          <p:nvPr/>
        </p:nvGrpSpPr>
        <p:grpSpPr>
          <a:xfrm>
            <a:off x="0" y="1143000"/>
            <a:ext cx="9144000" cy="5362560"/>
            <a:chOff x="0" y="1143000"/>
            <a:chExt cx="9144000" cy="5362560"/>
          </a:xfrm>
        </p:grpSpPr>
        <p:pic>
          <p:nvPicPr>
            <p:cNvPr id="99" name="Picture 7" descr="fig17_03"/>
            <p:cNvPicPr/>
            <p:nvPr/>
          </p:nvPicPr>
          <p:blipFill>
            <a:blip r:embed="rId1"/>
            <a:srcRect l="0" t="0" r="0" b="11336"/>
            <a:stretch/>
          </p:blipFill>
          <p:spPr>
            <a:xfrm>
              <a:off x="0" y="1143000"/>
              <a:ext cx="9144000" cy="536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3"/>
            <p:cNvSpPr/>
            <p:nvPr/>
          </p:nvSpPr>
          <p:spPr>
            <a:xfrm>
              <a:off x="2286000" y="4191120"/>
              <a:ext cx="19047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000000"/>
                  </a:solidFill>
                  <a:latin typeface="Arial"/>
                </a:rPr>
                <a:t>Редукциони агенс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M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Arial"/>
                </a:rPr>
                <a:t> Zn</a:t>
              </a:r>
              <a:r>
                <a:rPr b="0" lang="sr-Latn-CS" sz="24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4"/>
            <p:cNvSpPr/>
            <p:nvPr/>
          </p:nvSpPr>
          <p:spPr>
            <a:xfrm>
              <a:off x="4876920" y="4191120"/>
              <a:ext cx="21333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000000"/>
                  </a:solidFill>
                  <a:latin typeface="Arial"/>
                </a:rPr>
                <a:t>Оксидациони агенс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M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Arial"/>
                </a:rPr>
                <a:t> Cu</a:t>
              </a:r>
              <a:r>
                <a:rPr b="0" lang="sr-Latn-CS" sz="24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5"/>
            <p:cNvSpPr/>
            <p:nvPr/>
          </p:nvSpPr>
          <p:spPr>
            <a:xfrm>
              <a:off x="4419720" y="2057400"/>
              <a:ext cx="23619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000000"/>
                  </a:solidFill>
                  <a:latin typeface="Arial"/>
                </a:rPr>
                <a:t>Проводни мост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sr-CS" sz="2400" spc="-1" strike="noStrike">
                  <a:solidFill>
                    <a:srgbClr val="000000"/>
                  </a:solidFill>
                  <a:latin typeface="Arial"/>
                </a:rPr>
                <a:t> и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6"/>
            <p:cNvSpPr/>
            <p:nvPr/>
          </p:nvSpPr>
          <p:spPr>
            <a:xfrm>
              <a:off x="841320" y="304812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7"/>
            <p:cNvSpPr/>
            <p:nvPr/>
          </p:nvSpPr>
          <p:spPr>
            <a:xfrm>
              <a:off x="8004600" y="31240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ffff"/>
                  </a:solidFill>
                  <a:latin typeface="Arial"/>
                </a:rPr>
                <a:t>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9"/>
            <p:cNvSpPr/>
            <p:nvPr/>
          </p:nvSpPr>
          <p:spPr>
            <a:xfrm>
              <a:off x="1377360" y="304812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- АНОД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0"/>
            <p:cNvSpPr/>
            <p:nvPr/>
          </p:nvSpPr>
          <p:spPr>
            <a:xfrm>
              <a:off x="6702480" y="304812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+ КАТОД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1153440" y="5562720"/>
              <a:ext cx="915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nSO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5497560" y="5715000"/>
              <a:ext cx="875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uSO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8079840" y="35053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4"/>
            <p:cNvSpPr/>
            <p:nvPr/>
          </p:nvSpPr>
          <p:spPr>
            <a:xfrm>
              <a:off x="840960" y="3505320"/>
              <a:ext cx="3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ffffff"/>
                  </a:solidFill>
                  <a:latin typeface="Arial"/>
                </a:rPr>
                <a:t>-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1" name="Straight Arrow Connector 17"/>
          <p:cNvCxnSpPr/>
          <p:nvPr/>
        </p:nvCxnSpPr>
        <p:spPr>
          <a:xfrm>
            <a:off x="4343040" y="4114800"/>
            <a:ext cx="6102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2" name="Straight Arrow Connector 19"/>
          <p:cNvCxnSpPr/>
          <p:nvPr/>
        </p:nvCxnSpPr>
        <p:spPr>
          <a:xfrm flipH="1" flipV="1">
            <a:off x="4190400" y="5714640"/>
            <a:ext cx="6865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3" name="TextBox 20"/>
          <p:cNvSpPr/>
          <p:nvPr/>
        </p:nvSpPr>
        <p:spPr>
          <a:xfrm>
            <a:off x="2980800" y="137160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Затворено електрично ко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4113000" y="37339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4036680" y="57913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457200" y="1295280"/>
            <a:ext cx="5029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ни ће тећи од аноде ка катоди спонта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ни теку од аноде према катоди због тога што катода има нижу потенцијалну енергију од ано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ика потенцијала се мери у волт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хнички, један волт је разлика потенцијала за коју је потребна енергија од 1 џула да би се пренело наелектрисање од 1 кул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6019920" y="4038480"/>
                <a:ext cx="2678040" cy="25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 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C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6485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6485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Freeform 5"/>
          <p:cNvSpPr/>
          <p:nvPr/>
        </p:nvSpPr>
        <p:spPr>
          <a:xfrm>
            <a:off x="6095880" y="457200"/>
            <a:ext cx="2514600" cy="26668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1584" h="1680">
                <a:moveTo>
                  <a:pt x="0" y="0"/>
                </a:moveTo>
                <a:lnTo>
                  <a:pt x="0" y="1680"/>
                </a:lnTo>
                <a:lnTo>
                  <a:pt x="1584" y="16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6"/>
          <p:cNvSpPr/>
          <p:nvPr/>
        </p:nvSpPr>
        <p:spPr>
          <a:xfrm>
            <a:off x="6324480" y="91440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1344" h="1152">
                <a:moveTo>
                  <a:pt x="0" y="0"/>
                </a:moveTo>
                <a:lnTo>
                  <a:pt x="384" y="0"/>
                </a:lnTo>
                <a:lnTo>
                  <a:pt x="912" y="1152"/>
                </a:lnTo>
                <a:lnTo>
                  <a:pt x="1344" y="1152"/>
                </a:ln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6629400" y="914400"/>
            <a:ext cx="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643080" y="517680"/>
            <a:ext cx="3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7252920" y="1295280"/>
            <a:ext cx="3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8064000" y="2346480"/>
            <a:ext cx="3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304920" y="228600"/>
            <a:ext cx="88390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ређаји у којима се електрони крећу од аноде ка катоди  под дејством разлике потенцијала који постоји између две полуреакције се називају Волтаич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, Напонске ил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алванск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ћел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ук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ксида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двија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стовремен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ксид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укци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ек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л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оку редокс 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гућ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мери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тру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по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вог електричног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труј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ретањ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електрисања          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Ампер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i="1" lang="sr-CS" sz="2400" spc="-1" strike="noStrike">
                <a:solidFill>
                  <a:srgbClr val="ff0000"/>
                </a:solidFill>
                <a:latin typeface="Arial"/>
              </a:rPr>
              <a:t>улона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i="1" lang="sr-CS" sz="2400" spc="-1" strike="noStrike">
                <a:solidFill>
                  <a:srgbClr val="ff0000"/>
                </a:solidFill>
                <a:latin typeface="Arial"/>
              </a:rPr>
              <a:t>секунди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тру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размерна брз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кс-ред 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по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размеран проме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лобод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нерг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ight Arrow 2"/>
          <p:cNvSpPr/>
          <p:nvPr/>
        </p:nvSpPr>
        <p:spPr>
          <a:xfrm>
            <a:off x="5943600" y="4724280"/>
            <a:ext cx="533520" cy="763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5"/>
          <p:cNvSpPr/>
          <p:nvPr/>
        </p:nvSpPr>
        <p:spPr>
          <a:xfrm>
            <a:off x="0" y="0"/>
            <a:ext cx="92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ВОЛТАИЧН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НАПОНСКЕ, ГАЛВАНСКЕ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ЋЕЛИЈЕ, БАТЕР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6"/>
          <p:cNvSpPr/>
          <p:nvPr/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олтаичн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понске, галванск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ћелије или  батерије су хемијски извори струје у којима спонтани оксидоредукциони процес  даје енергију којом систем може да врши електрични р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нергетс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зли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упроцеса  на електродама покрећ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рећ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нод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атод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лобод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нерг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окс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ат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аксималним корисни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слобађ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да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кол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ао електрич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3300"/>
                </a:solidFill>
                <a:latin typeface="Arial"/>
                <a:ea typeface="Arial"/>
              </a:rPr>
              <a:t>Δ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  <a:ea typeface="Arial"/>
              </a:rPr>
              <a:t>G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= -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личи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ог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сказу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извод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личи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цитет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им напон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W=q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личи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цитет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зли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тенциј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1520" y="3809880"/>
            <a:ext cx="2978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шт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q= nF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380880" y="0"/>
            <a:ext cx="8534520" cy="706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шт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личина електрицитета јед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q= n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електрисањ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дног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л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радејев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96485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ул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значав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лов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нес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при датој потенцијалној разлиц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а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W = nF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lang="sr-CS" sz="2800" spc="-1" strike="noStrike" baseline="-25000">
                <a:solidFill>
                  <a:srgbClr val="ff33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де Е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с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дставља електрични потенцијал или напон ћелије који се још назива и електромотор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M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ћел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по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ћел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вршени рад од 1Ј (Џула) одговара преносу укупне количине наелектрисања од 1С (кулона) при потенцијалу од 1 Вол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= 1C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Одакле следи: </a:t>
            </a:r>
            <a:r>
              <a:rPr b="1" lang="el-GR" sz="3200" spc="-1" strike="noStrike">
                <a:solidFill>
                  <a:srgbClr val="ff3300"/>
                </a:solidFill>
                <a:latin typeface="Arial"/>
                <a:ea typeface="Arial"/>
              </a:rPr>
              <a:t>Δ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  <a:ea typeface="Arial"/>
              </a:rPr>
              <a:t>G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= -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 nF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lang="sr-Latn-CS" sz="3200" spc="-1" strike="noStrike" baseline="-25000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5T04:59:30Z</dcterms:created>
  <dc:creator>korisnik</dc:creator>
  <dc:description/>
  <dc:language>en-US</dc:language>
  <cp:lastModifiedBy>Snezana Jovanovic</cp:lastModifiedBy>
  <dcterms:modified xsi:type="dcterms:W3CDTF">2023-11-16T11:09:21Z</dcterms:modified>
  <cp:revision>206</cp:revision>
  <dc:subject/>
  <dc:title>Slide 1</dc:title>
</cp:coreProperties>
</file>